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F00-A814-4C7D-A4E3-A3F978C3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096D-F5D4-4600-921B-6F6B4A8F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D41-381E-49EF-8123-C8753A25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A42-781F-424B-8696-2F5682B9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B473-CDBE-417E-B268-B39C48FB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86A2-B1F8-40BD-B8D9-B340B48A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4EA-2EBB-4390-84AA-7C16BD4C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2A05-B69D-4304-AC6F-0E615FC9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889-FC51-48CE-BCCC-F50CEDC4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F3D3-96FC-4B32-899F-962505C2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CDD0-75AB-42AF-885F-58516FFE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8A5-F838-46A3-8FAB-00BB0DCA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5BC09A-2557-41CC-A269-B0141BBB4F7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  <a:ea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  <a:ea typeface="等线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-25560"/>
            <a:ext cx="1219212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  <a:ea typeface="等线 Light"/>
            </a:endParaRPr>
          </a:p>
        </p:txBody>
      </p:sp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Think</dc:creator>
  <dc:description/>
  <dc:language>en-US</dc:language>
  <cp:lastModifiedBy>my</cp:lastModifiedBy>
  <dcterms:modified xsi:type="dcterms:W3CDTF">2023-03-14T06:40:5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