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E88-3157-4B25-A007-B901CDD6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6EE7-8806-4D76-BAE5-B1057823C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59D1-6FFA-43D6-851B-243723A38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881-44B7-4AA4-B2CC-1344CFCE0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B15-5CCF-474F-81F2-9E143BEAD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A719-63FE-4C1F-BB5B-E9BAAB9E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9CFB-A280-4CBF-A629-8962DA52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4F64-ACCC-4D10-A3F6-2C9FE9981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1737-09AB-4FFC-91DF-AFC5671C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7C53-FDBF-454B-B29E-4743AB59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9733-3ED8-4668-9CAF-7286BD84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3FCD-CB87-4F81-B7A1-B7D66AA05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725D8A-FA0D-49AE-82F4-B86C63C47B9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0968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  <a:ea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895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  <a:ea typeface="等线"/>
            </a:endParaRPr>
          </a:p>
        </p:txBody>
      </p:sp>
      <p:pic>
        <p:nvPicPr>
          <p:cNvPr id="43" name="图片 1" descr=""/>
          <p:cNvPicPr/>
          <p:nvPr/>
        </p:nvPicPr>
        <p:blipFill>
          <a:blip r:embed="rId1"/>
          <a:stretch/>
        </p:blipFill>
        <p:spPr>
          <a:xfrm>
            <a:off x="0" y="-25560"/>
            <a:ext cx="12192120" cy="690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 Light"/>
              <a:ea typeface="等线 Light"/>
            </a:endParaRPr>
          </a:p>
        </p:txBody>
      </p:sp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08:56:59Z</dcterms:created>
  <dc:creator>Think</dc:creator>
  <dc:description/>
  <dc:language>en-US</dc:language>
  <cp:lastModifiedBy>my</cp:lastModifiedBy>
  <dcterms:modified xsi:type="dcterms:W3CDTF">2023-03-14T06:40:5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